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E72B-8D97-4A6C-B35B-8D4E433A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916A-D1B4-4167-8E94-BD157E32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3F243-9158-48FE-911B-54A6B137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96651-03FC-49F4-AF64-75916C49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2D38-16DA-4D8A-A608-798A76E3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46BA-21E4-4B53-9E90-3EA11DBC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C385-7DD3-4CCC-8F2F-93388B6D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50A8-0CEA-4BF9-83B9-D5DD2048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3A7D-D5E8-4339-A122-6283F22D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629F-257B-43C2-8206-85435D0C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D5AE-B7D4-4183-A2FC-49613A26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89B3-9247-4B13-90D0-4CDD1A2D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3182-1BE5-4BFB-81C9-709C43DE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DA57-F34E-41A8-B0EF-C526AF2D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3D4F-9043-414E-BE10-C1CB64A8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EC0C-0B2E-4606-A8CC-21DD9ECA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23E1-4CDB-419D-8B3A-EBE66B54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E79B-C1D3-4D83-BD5E-6DE0DF65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9BE9-F093-4E8A-9124-A52C6104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5059-C6CE-4431-8BBB-1D349A86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C367-A3C2-43DF-84B1-BC197FAB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629DC-9D8F-412F-8E2C-8CBC8A75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C49B-28FF-4581-A2C0-E21D7C38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3B958-DE4F-47AA-8411-7A67B861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420B-16B0-4F00-BF1A-7E44F73CB5AF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entury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Century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9675-C7B4-4E19-A03C-1C44EAE14147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entury"/>
              </a:rPr>
              <a:t>Absolutism &amp; the Old Regim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6520" cy="453060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entury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Defining Absolut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France &amp; Louis X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Absolutism Elsew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Prussia &amp; Frederick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Austrian Empire &amp; Maria There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Russia &amp; Peter the Gr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6520" cy="453060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entury"/>
              </a:rPr>
              <a:t>IDENTIF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Absolut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Louis X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Fro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Parl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Versail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Frederick II (the Grea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Palace of Versail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a Chateau de Versail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6172200"/>
            <a:ext cx="8077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 under the direction of achitect, Louis le Vau, beginning in 166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Gardens of Versail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Gardens of Versail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Grand cour de Versail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15429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Palace of Versailles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Hall of Mirror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19080" y="5943600"/>
            <a:ext cx="5113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est example of Baroque architecture at the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d by Charles Le B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Palace of Versailles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Hall of Mirror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Palace of Versailles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Royal Chapel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magery at Versailles (Le Roi Soleil)</a:t>
            </a: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809880" cy="3633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51562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entury"/>
              </a:rPr>
              <a:t>Louis XIV’s War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1667 invaded Spanish Netherla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Defeated by the British &amp; Dut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1672-1678:  Louis aligned with the Charles II (England) against the Dut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France gained terri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War of the League of Augsburg (1668-169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Grand Alliance against Fr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France lo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War of the Spanish Succession (1701-171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France lost most of the battles but achieved it goal—the installation of a French prince as king of Spa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495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entury"/>
              </a:rPr>
              <a:t>Defining Absolutis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A “centralized form of government dominated by a monarchy that shared little power with any other national institutions.” Example:  France under Louis X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Other Attemp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Hohenzollerns under Frederick the Great (Pruss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Holy Roman Empire (ruled by the Habsburg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Russia under Peter the Gr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Declining Pow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Holy Roman Emp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Pol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Ottoman Turk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entury"/>
              </a:rPr>
              <a:t>Europe: The Age of Absolutis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63272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eorgia"/>
              </a:rPr>
              <a:t>Cardinal Richelieu </a:t>
            </a: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(d. 164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Armand du Plessis, duc de Richelieu 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(b. 158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Chief minister to Louis XIII, Richelieu sought to enhance royal power and reduce noble ambi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Introduced the use of intendents, royal officials who implemented and oversaw royal policy throughout the count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06960" y="1600200"/>
            <a:ext cx="3119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entury"/>
              </a:rPr>
              <a:t>Regency of Anne of Austria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Century"/>
              </a:rPr>
              <a:t>&amp; Cardinal Mazarin  (1643-1661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Queen Anne of Austria (1602-1666) &amp; Cardinal Mazarin  (1602-166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entury"/>
              </a:rPr>
              <a:t>Peace of Westphalia</a:t>
            </a: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 (164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Brought an end to the Thirty Years’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France &amp; Sweden vs. Holy Roman Empire &amp; Sp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Mazarin wanted to pursue the policies of Louis XIII by continuing to curb the powers of the French nobility &amp; strengthen the power of the monarch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entury"/>
              </a:rPr>
              <a:t>The Fronde</a:t>
            </a: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 (1648-165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Led by nobles &amp; judicial leaders (</a:t>
            </a:r>
            <a:r>
              <a:rPr b="0" i="1" lang="en-US" sz="2400" spc="-1" strike="noStrike">
                <a:solidFill>
                  <a:srgbClr val="ffffcc"/>
                </a:solidFill>
                <a:latin typeface="Century"/>
              </a:rPr>
              <a:t>parlementaires</a:t>
            </a: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"/>
              </a:rPr>
              <a:t>Parlement</a:t>
            </a:r>
            <a:r>
              <a:rPr b="1" lang="en-US" sz="2400" spc="-1" strike="noStrike">
                <a:solidFill>
                  <a:srgbClr val="ffffcc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of Paris = a court of law, not a representative assemb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Wanted to limit the growing authority of the crow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Princes and great nobles (</a:t>
            </a:r>
            <a:r>
              <a:rPr b="0" i="1" lang="en-US" sz="2400" spc="-1" strike="noStrike">
                <a:solidFill>
                  <a:srgbClr val="ffffcc"/>
                </a:solidFill>
                <a:latin typeface="Century"/>
              </a:rPr>
              <a:t>les grandes</a:t>
            </a: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Also wanted to limit the power of the monarchy &amp; protect their privile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The Fronde was the last attempt of the nobility to resist the king by ar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Humiliation of the no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Strengthening of royal autho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Disruption of the French econo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Louis XIV  </a:t>
            </a:r>
            <a:r>
              <a:rPr b="0" lang="en-US" sz="2500" spc="-1" strike="noStrike">
                <a:solidFill>
                  <a:srgbClr val="ffffcc"/>
                </a:solidFill>
                <a:latin typeface="Times New Roman"/>
              </a:rPr>
              <a:t>(Reigned:  1643-1715)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24600" cy="487692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igned for 72 years, for 54 of them he personally controlled the French governme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uis XIV of France ranks as one of the most remarkable monarchs in histo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 Roi Solei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(The Sun K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s rule has been hailed as the supreme example of absolutis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der Louis XIV, France became stabilized, centralized, &amp; one of the strongest powers in Europ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5851440"/>
            <a:ext cx="2557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Louis X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Painting by Riga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Louv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3017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entury"/>
              </a:rPr>
              <a:t>Louis XIV’s Drive Toward Absolutism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Saw himself as God’s vicar on earth for F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Divine Right or Divine Ru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The king rules through God’s gra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Completely reorganized France, making it into a highly-centralized, well-functioning modern nation-st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Basis of reorganization: Central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Government adminis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Financial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Army was reserved as occupation for no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Developed of trade &amp; manufacturing  (mercantilism) under direction of J-B Colbe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He believed that the state &amp; the sovereign were 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He thought that all power should be concentrated in one place - in hi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L etat, c’est moi.” (“I am the State.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He attempted to strengthen the crown by diminishing the individual privileges of French no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Sun King (</a:t>
            </a:r>
            <a:r>
              <a:rPr b="0" i="1" lang="en-US" sz="2800" spc="-1" strike="noStrike">
                <a:solidFill>
                  <a:srgbClr val="ffffcc"/>
                </a:solidFill>
                <a:latin typeface="Century"/>
              </a:rPr>
              <a:t>le roi soleil</a:t>
            </a: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614160" y="297000"/>
            <a:ext cx="84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entury"/>
              </a:rPr>
              <a:t>Louis XIV’s Drive Toward Absolut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4:01:02Z</dcterms:created>
  <dc:creator>Phil Lancour</dc:creator>
  <dc:description/>
  <dc:language>en-US</dc:language>
  <cp:lastModifiedBy>Susan Gregory</cp:lastModifiedBy>
  <dcterms:modified xsi:type="dcterms:W3CDTF">2007-11-12T08:51:17Z</dcterms:modified>
  <cp:revision>53</cp:revision>
  <dc:subject/>
  <dc:title>dd</dc:title>
</cp:coreProperties>
</file>